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C31-7236-490C-B772-529BEEEF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8BA-23D0-48D7-99FD-6A99F52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AAF-8572-4B6A-82EF-C1C9FA62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2AF-F6E4-4CE4-A781-7454B600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859A3-0590-4924-AD9D-ACA800AB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DB2CA-6D4B-44A6-98CB-E8F14260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BD64E-22D4-492F-8E46-C67C080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27E0A-00DF-4E74-8246-FC307DD0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3B05D-0785-4D8B-89B5-F73F4B31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019CE-9E03-4D57-A4BC-0FEC511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5BCBB-7EFA-4A27-828C-EC3FECA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206-D1AE-4D90-BFAE-D4195DCB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C7B5-02B7-41D4-9F8C-A672B15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2009B-4E9B-4CC3-975E-B7624A3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3E84-94FC-49E5-BAEC-DECC7A8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81B43-FCFB-48A9-8294-750C305D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1EEEC-C2E6-4CF5-BD20-459EF76B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E8C-5E36-47DA-8405-86401D9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B31-D9F4-4DA6-A432-C6A7A7D8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D81-348D-446E-ABA0-B0EEDF8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8EB-5A02-4264-8892-98CBB3B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541-E68E-4749-983C-2FD51DE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AA9-ABC2-4929-9BE4-3C62156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C32-C3D2-4F29-9484-B5F9A06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30CD-91CD-411E-B7B7-6403A5550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8C0-8ACB-4EA7-9EAA-15C36B4599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ellingcity.com/index.php?option=com_spellcity&amp;Itemid=122&amp;task=viewList&amp;listId=354192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ckiblackwell.com/timer.html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ontent.answers.com/main/content/wp/en-commons/thumb/c/c4/300px-Space_Shuttle_Columbia_launching.jpg&amp;imgrefurl=http://www.answers.com/topic/space-shuttle-program&amp;h=346&amp;w=300&amp;sz=29&amp;hl=en&amp;start=1&amp;usg=__bCieDIftf2hAJva51pMbSqdozyA=&amp;tbnid=_17s8W3t4ASfRM:&amp;tbnh=120&amp;tbnw=104&amp;prev=/images?q=space+shuttle&amp;gbv=2&amp;hl=en&amp;sa=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archives.gov/press/press-kits/picturing-the-century-photos/space-shuttle-challenger.jpg&amp;imgrefurl=http://www.archives.gov/press/press-kits/1930-census-photos/&amp;h=3000&amp;w=2383&amp;sz=379&amp;hl=en&amp;start=4&amp;usg=__Vv-bwU5xcPvG1ZEUeCEqWvUscPY=&amp;tbnid=VmBJlLHYko49oM:&amp;tbnh=150&amp;tbnw=119&amp;prev=/images?q=space+shuttle&amp;gbv=2&amp;hl=en&amp;sa=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.aerospaceguide.net/spacepictures/shuttle_endeavour.jpg&amp;imgrefurl=http://www.aerospaceguide.net/spaceshuttle/index.html&amp;h=430&amp;w=290&amp;sz=16&amp;hl=en&amp;start=3&amp;usg=__BBnng4XqfFkROibOvy51hdmkGHQ=&amp;tbnid=5YeaaroKZQah4M:&amp;tbnh=126&amp;tbnw=85&amp;prev=/images?q=space+shuttle&amp;gbv=2&amp;hl=en&amp;sa=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www.avsim.com/pages/0905/Canaveral/Nick&apos;s-Space-Shuttle-Landin.jpg&amp;imgrefurl=http://www.avsim.com/pages/0905/Canaveral/Canaveral.htm&amp;h=600&amp;w=800&amp;sz=99&amp;hl=en&amp;start=12&amp;usg=__WGhdxR3bxCPWpQjf03kIfaof8Ac=&amp;tbnid=yKrQEjsqKdQLRM:&amp;tbnh=107&amp;tbnw=143&amp;prev=/images?q=space+shuttle&amp;gbv=2&amp;hl=en&amp;sa=G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/imgres?imgurl=http://www.astro.uva.nl/exhibition/pictures/mooie_gifjes/astronaut.gif&amp;imgrefurl=http://buckdogpolitics.blogspot.com/2007_07_01_archive.html&amp;h=480&amp;w=640&amp;sz=130&amp;hl=en&amp;start=1&amp;usg=__I4MH7Rz7tXnyERgshlBjjRQv9bk=&amp;tbnid=VdRvICE0hSSf5M:&amp;tbnh=103&amp;tbnw=137&amp;prev=/images?q=astronauts&amp;gbv=2&amp;hl=en&amp;sa=X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com/imgres?imgurl=http://www.nasa.gov/centers/jpl/images/content/110188main_reflec-astronauts-browse.jpg&amp;imgrefurl=http://www.nasa.gov/centers/jpl/news/moon-030405.html&amp;h=540&amp;w=720&amp;sz=72&amp;hl=en&amp;start=8&amp;usg=__mJrYwLil9o7UkovymtjjvEljfMg=&amp;tbnid=E_1MSxrsNzRzbM:&amp;tbnh=105&amp;tbnw=140&amp;prev=/images?q=astronauts&amp;gbv=2&amp;hl=en&amp;sa=X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com/imgres?imgurl=http://upload.wikimedia.org/wikipedia/commons/e/e7/Astronauts_in_weightlessness.jpg&amp;imgrefurl=http://commons.wikimedia.org/wiki/Image:Astronauts_in_weightlessness.jpg&amp;h=1046&amp;w=1404&amp;sz=1462&amp;hl=en&amp;start=10&amp;usg=__DOMD0-k4tHYYMaIYRnNvOW8O6OQ=&amp;tbnid=2ia5FCvFwKGJVM:&amp;tbnh=112&amp;tbnw=150&amp;prev=/images?q=astronauts&amp;gbv=2&amp;hl=en&amp;sa=X" TargetMode="External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25.xml"/><Relationship Id="rId4" Type="http://schemas.openxmlformats.org/officeDocument/2006/relationships/slide" Target="slide58.xml"/><Relationship Id="rId5" Type="http://schemas.openxmlformats.org/officeDocument/2006/relationships/slide" Target="slide73.xml"/><Relationship Id="rId6" Type="http://schemas.openxmlformats.org/officeDocument/2006/relationships/slide" Target="slide81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y would anyone want to explore spac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8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38307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10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c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a - sc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a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you go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aut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a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space in their space shutt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a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second floor when you walk upstai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c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de - sc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de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you go d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ronaut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de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hen they come down from space in their space shutt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desc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hen you walk downstai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b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or - 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orb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path of something like a spacecraft or planet around something in space, such as Earth or the s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orbi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un, and the moon orbits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watch TV because of the satellites that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orb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g Vowels CV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these word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o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 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 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aking Wor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Letter Ti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-  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c - d - f - g - l -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n - r - 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905120"/>
          <a:ext cx="3581640" cy="449568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an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c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917960" y="1905120"/>
          <a:ext cx="3927600" cy="4541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6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ne            cu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            bla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e            h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           vo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er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conf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e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sp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alk about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ora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in Idea and Detai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hat a selection is about. 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most important idea about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ieces of information in a selection that tell more about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alle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readers look for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help them understand what the whole story is ab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onday’s Fix-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e will fly into spac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We will fly into sp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t will be lots of fu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It will be lots of fun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mall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Tim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ubject of a sentence tells who or what does somethi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Neil Armstro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lked on the mo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The mo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oes around the Ear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subject of each sentenc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y wants to be a firefigh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To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nts to be a firefigh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fighters put out fi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irefight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ut out fi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girl will be an astrona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The gir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ill be an astrona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tronauts study spac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Astronau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tudy spac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e dreams about spaceship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S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dreams about spaceship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ther is a zoologi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My fath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a zoologi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oologists study anima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Zoologis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tudy anima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uncle explores the rain fore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My uncl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lores the rain fore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 story about a rocket that goes into orbit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8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astronauts who explore space.  What do you think it feels like to take off into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13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 will read about astronauts who explore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pac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 What do you think it feels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lik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to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tak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off into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9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ideas and detail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9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ive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u - ni -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uni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ade up of Earth, the sun, the moon, and all the other planets and stars in the s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world is a small part of th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uni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we look at the stars, we think how huge our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uni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1295280"/>
          <a:ext cx="3733920" cy="454212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48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na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ut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ri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724280" y="1295280"/>
          <a:ext cx="3810240" cy="45421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b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iver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ormo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un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e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ormo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e – nor - m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hing that i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enorm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very big and hu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Street saw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enorm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uds in the s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enorm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ilding is so big you can’t see it all at the sam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ourne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jour - 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jour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long tr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family drives for several days to go somewhere, they go on 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jour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stronaut goes on 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jour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ng Vowels CVCe</a:t>
            </a:r>
            <a:br>
              <a:rPr sz="44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ad these word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 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 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 Reading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Listen to “Race into Space” and pick out the long vowel wo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3412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14600" y="1447920"/>
          <a:ext cx="4343400" cy="419076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chi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ry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2895480"/>
          <a:ext cx="6096240" cy="2925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rt these word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, rose, ice, age, space, place, twice, nice, hose, close, page, spac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14400" y="2895480"/>
          <a:ext cx="7238880" cy="2925720"/>
        </p:xfrm>
        <a:graphic>
          <a:graphicData uri="http://schemas.openxmlformats.org/drawingml/2006/table">
            <a:tbl>
              <a:tblPr/>
              <a:tblGrid>
                <a:gridCol w="1895400"/>
                <a:gridCol w="1724040"/>
                <a:gridCol w="1809720"/>
                <a:gridCol w="18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-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s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w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lling:  Long Vowels CV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was late when we go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was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lat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hen we got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size of the mic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iz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ic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vote for the first ti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vot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the first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i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in Idea and Detai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hat a selection is about. 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most important idea about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ieces of information in a selection that tell more about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alle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tai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readers look for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help them understand what the whole story is ab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often us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ad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help readers know what they are going to read about next.  Paying attention to headings and thinking as we read can help us become better rea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3276720" cy="445608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44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d Wall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a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17960" y="1905120"/>
          <a:ext cx="3927600" cy="4541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5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ne            cu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            bla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e            h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ce           vo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er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conf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e            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sp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ce Shuttle &amp; Astronau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1430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7960" y="11430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240" y="40381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40381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1" descr="300px-Space_Shuttle_Columbia_launc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143000"/>
            <a:ext cx="2398680" cy="2590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space-shuttle-challeng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1219320"/>
            <a:ext cx="193356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uttle_endeavou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95480" y="1143000"/>
            <a:ext cx="1697040" cy="2514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Nick%27s-Space-Shuttle-Landi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1371600"/>
            <a:ext cx="1981080" cy="2111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astronau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4267080"/>
            <a:ext cx="2133720" cy="1605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110188main_reflec-astronauts-brows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90920" y="426708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Astronauts_in_weightlessnes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76920" y="4267080"/>
            <a:ext cx="2057400" cy="1535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Atlantis_astronauts_spacewalk"/>
          <p:cNvPicPr/>
          <p:nvPr/>
        </p:nvPicPr>
        <p:blipFill>
          <a:blip r:embed="rId16"/>
          <a:stretch/>
        </p:blipFill>
        <p:spPr>
          <a:xfrm>
            <a:off x="7238880" y="4191120"/>
            <a:ext cx="15908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igh Frequenc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ch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w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strona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person who goes into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hutt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 vehicle that carries astronauts into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xperi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est to find out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elesco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 instrument that makes things far away appear to be cl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natural force that makes everything on Earth move toward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Space Center we saw an ____ in her spaces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Space Center we saw a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strona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her spaces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ould be fun to float without ____ like sh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ould be fun to float without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gra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ke sh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looked through a ____ to see some st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looked through 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elesco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see some st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aw pictures of an ____ in space with plants and ro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aw pictures of an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xperi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pace with plants and ro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huge space ____ parked there t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huge spac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hutt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ked there t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uesday’s Fix-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as ho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The astronaut was hom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he was gone a long tim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he was gone a long time.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bject of a sentence tells who or what does some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stronaut goes into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n astrona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into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pace shuttle goes up like a roc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 space shutt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up like a roc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what you would like to see and do in spa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Picture 14" descr="Exploring Space"/>
          <p:cNvPicPr/>
          <p:nvPr/>
        </p:nvPicPr>
        <p:blipFill>
          <a:blip r:embed="rId2"/>
          <a:stretch/>
        </p:blipFill>
        <p:spPr>
          <a:xfrm>
            <a:off x="800100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66680" y="220968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 astronaut helps Gloria think that she can do anything she wants to do.  What will Gloria do when she grows up?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66680" y="2209680"/>
          <a:ext cx="6934320" cy="32004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astronau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elps Gloria think that she can do anything she wants to do.  What will Gloria do when she grows up?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ig Question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y would anyone want to explore sp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vowel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 word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19320" y="2819520"/>
          <a:ext cx="6095880" cy="226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5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lau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laun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mething when you get it started or set it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laun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boat or a plane when we get ready to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pace shuttle is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launch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it starts up and gets into the s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eori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me – te – or - 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piece of stone from space that hits some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ceships sometimes are hit by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meteori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</a:t>
            </a:r>
            <a:r>
              <a:rPr b="1" i="1" lang="en-US" sz="3200" spc="-1" strike="noStrike">
                <a:solidFill>
                  <a:srgbClr val="6699ff"/>
                </a:solidFill>
                <a:latin typeface="Tahoma"/>
              </a:rPr>
              <a:t>meteori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hit Earth leave big dents in the g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rt Vowels Review: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Read thes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igh Frequenc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ch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w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igh-Frequency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tronauts ______ on the space s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le Andy tells the funniest jokes in the whole 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“out of Order” signs posted on all the snack 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 he dropped me off at school, Dad drove to 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m said, “These toys are scattered _____!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wo weeks my best friend Jack will ____ to a different t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rs. Sage is the ____ in the green d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osition words tell the position of some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s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hu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space shu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at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veryw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u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hu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wind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Word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osition words tell the position of some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’m holding the book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ov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y hea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red book is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esid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blue boo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re are books all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roun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roo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ednesday’s Fix-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t is a fine day to fly into spa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It is a fine day to fly into spa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in the sky no cloud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No clouds are in the sk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2133720"/>
          <a:ext cx="6095880" cy="3468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nauts fly somewhere into space.  They can fly around our beautiful Earth.  Why would anyone want to explore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2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ubject of a sentence tells who or what does somethi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mmar:  Subje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to be a police officer when I grow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nt to be a police officer when I grow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officers drive police cars and make the sirens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ice offic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rive police cars and make the sirens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officers keep us sa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ice offic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eep us sa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dnesd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 position words in sentences about exploring spa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12" descr="Exploring Space"/>
          <p:cNvPicPr/>
          <p:nvPr/>
        </p:nvPicPr>
        <p:blipFill>
          <a:blip r:embed="rId2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’ll read about kids going to space camp.  They find out how it feels to be up in space.  What do you think being in space camp is lik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day we’ll read about kids going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t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pace camp.  They find out how it feels to be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u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pace.  What do you think being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pace camp is lik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 for list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ntence Rea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jacket is somewhere, but I cannot fin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know someone who has a long nose on his 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friend has nine mice in a huge c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can drive his nice car in the coun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cent in my pocket will not get a beautiful gem for M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at at the front of the rink to see them skate on 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Thursday’s Fix-I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as late for the soccer gam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He was late for the soccer gam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y missed the first go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They missed the first goal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Choose the subject in each sent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go to a bi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W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 to a bi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kids are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k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teacher’s name is Mr. Hu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Our teacher’s 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r. Hu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lays soccer with us during re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lays soccer with us during re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Hunt can kick a soccer ball very f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. Hu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kick a soccer ball very f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ople listen for several different reasons.  Why do we list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to hear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to hear other people’s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for enjoyment and appreci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isten for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nda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133720"/>
          <a:ext cx="6095880" cy="3468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nauts fly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omewhe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nto space.  They can fly around our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beautifu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arth.  Why would anyone want to explore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Exploring Spac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urs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t things that ca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end and descend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Picture 11" descr="Exploring Space"/>
          <p:cNvPicPr/>
          <p:nvPr/>
        </p:nvPicPr>
        <p:blipFill>
          <a:blip r:embed="rId2"/>
          <a:stretch/>
        </p:blipFill>
        <p:spPr>
          <a:xfrm>
            <a:off x="8077320" y="563868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week we read about people who want to explore space.  What do real astronauts do in spac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azing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362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orm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ur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eor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g Vowels CV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d these senten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lice of cake is n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l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you erase the note on the p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you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r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make a space in the cage for the m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p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ule has a huge white n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u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live, world, work, machines, everywhere, woman, m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he drive his car to __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he drive his car to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 this bench made by people or 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 this bench made by people or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chi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hat _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ha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om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d they ____ to a new ho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d they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o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a new ho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your family ___ next door to Jo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your family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li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ext door to Jo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big is our _____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big is our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you looked ____ for the lost pup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you looke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verywhe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the lost pup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riday’s Fix-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at space suit is not my siz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That space suit is not my siz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y friend it will fi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600"/>
                </a:solidFill>
                <a:latin typeface="Tahoma"/>
              </a:rPr>
              <a:t>It will fit my friend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ploring Space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da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 about children wh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end into spa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1" name="Picture 11" descr="Exploring Space"/>
          <p:cNvPicPr/>
          <p:nvPr/>
        </p:nvPicPr>
        <p:blipFill>
          <a:blip r:embed="rId2"/>
          <a:stretch/>
        </p:blipFill>
        <p:spPr>
          <a:xfrm>
            <a:off x="8077320" y="5562720"/>
            <a:ext cx="838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ew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ocabulary &amp; Amazing Wor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ig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elling Wor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ia 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elling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 Frequency Wor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t Potatoes (fill-in-the-blan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re now ready to take our story tes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z # 9046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itional Resourc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i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und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Compound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sten to F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 we will learn abou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mazing wor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vowels CV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ideas and details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08:13Z</dcterms:modified>
  <cp:revision>14</cp:revision>
  <dc:subject/>
  <dc:title>Slide 1</dc:title>
</cp:coreProperties>
</file>